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3B1-A5DC-4DBA-916A-AD02E174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33D-DE05-4C75-B468-9C9E69D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ED8-5EED-465A-8016-1F908BDB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BB9-3A00-4403-BB35-27BC825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47E8-7444-4DAB-8898-08C0C6FB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8E2-3B2C-4871-9990-B79DA28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126D-2AA0-4445-AA3D-4D6F963B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A40D-0CAB-4EA2-B4BC-69148AD9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7CB0-FB86-49B2-9A3D-3750F3D4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3865-9ECA-4939-BE56-C7CB38C4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53CC-42DA-47BF-86F4-332CD36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AB6-73C7-42E2-8734-7502292C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00A9-1B24-4708-8A2C-296DCC7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A6FB-B7FE-4547-A0EE-4155B03D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161-6BAE-443B-BC87-98937842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9F25-C986-4D83-B354-6646809F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2AD1-9B57-4B5B-88ED-8B8A4A37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094-4099-4245-9B2B-4C9091FB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FEA-D915-42BD-A8FC-628C9E5A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9E0-5B65-4E7B-9C5B-736BD342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2C0-EA45-4064-A381-CDDDE09B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0A7-D960-4E52-9467-C79D615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EB8-972A-4362-986A-0E56C29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21D-5688-4645-BB04-7E4089D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24B-B661-4BD7-9F00-F194A4C1948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1B8A-BC8C-4B94-AA27-838D385DB05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57150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NONRENEWABL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AN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RENEWABL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RESOURCES</a:t>
            </a:r>
            <a:endParaRPr b="0" lang="en-US" sz="60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4899240"/>
            <a:ext cx="57150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Kristen ITC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RENEWABLE RESOURCES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Renewable resources are natural resources that can be replenished in a short period of ti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●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Solar   ● Geotherm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●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Wind  </a:t>
            </a:r>
            <a:r>
              <a:rPr b="1" lang="en-US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● Bioma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●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wind"/>
          <p:cNvPicPr/>
          <p:nvPr/>
        </p:nvPicPr>
        <p:blipFill>
          <a:blip r:embed="rId1"/>
          <a:stretch/>
        </p:blipFill>
        <p:spPr>
          <a:xfrm>
            <a:off x="6921360" y="685800"/>
            <a:ext cx="2167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SOLAR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24000" y="1447560"/>
            <a:ext cx="4762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the su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the sun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solar"/>
          <p:cNvPicPr/>
          <p:nvPr/>
        </p:nvPicPr>
        <p:blipFill>
          <a:blip r:embed="rId1"/>
          <a:stretch/>
        </p:blipFill>
        <p:spPr>
          <a:xfrm>
            <a:off x="609480" y="228600"/>
            <a:ext cx="2590920" cy="255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solar2"/>
          <p:cNvPicPr/>
          <p:nvPr/>
        </p:nvPicPr>
        <p:blipFill>
          <a:blip r:embed="rId2"/>
          <a:stretch/>
        </p:blipFill>
        <p:spPr>
          <a:xfrm>
            <a:off x="271440" y="28195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GEOTHERMAL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Earth’s hea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the heat of the Earth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geothermal2"/>
          <p:cNvPicPr/>
          <p:nvPr/>
        </p:nvPicPr>
        <p:blipFill>
          <a:blip r:embed="rId1"/>
          <a:stretch/>
        </p:blipFill>
        <p:spPr>
          <a:xfrm>
            <a:off x="4572000" y="3808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geothermal1"/>
          <p:cNvPicPr/>
          <p:nvPr/>
        </p:nvPicPr>
        <p:blipFill>
          <a:blip r:embed="rId2"/>
          <a:stretch/>
        </p:blipFill>
        <p:spPr>
          <a:xfrm>
            <a:off x="6019920" y="2819520"/>
            <a:ext cx="293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WIND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0" y="380520"/>
            <a:ext cx="4114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the win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the wind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wind1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BIOMASS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burning organic or living matt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biomass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iomass2"/>
          <p:cNvPicPr/>
          <p:nvPr/>
        </p:nvPicPr>
        <p:blipFill>
          <a:blip r:embed="rId1"/>
          <a:stretch/>
        </p:blipFill>
        <p:spPr>
          <a:xfrm>
            <a:off x="4876920" y="609480"/>
            <a:ext cx="4049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WATER or  HYDROELECTRIC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24000" y="1143000"/>
            <a:ext cx="4838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the flow of wat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of flowing water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ydroelectric1"/>
          <p:cNvPicPr/>
          <p:nvPr/>
        </p:nvPicPr>
        <p:blipFill>
          <a:blip r:embed="rId1"/>
          <a:stretch/>
        </p:blipFill>
        <p:spPr>
          <a:xfrm>
            <a:off x="147600" y="1143000"/>
            <a:ext cx="3967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SUMMARY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952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are the differences between nonrenewable and renewable resourc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question1"/>
          <p:cNvPicPr/>
          <p:nvPr/>
        </p:nvPicPr>
        <p:blipFill>
          <a:blip r:embed="rId1"/>
          <a:stretch/>
        </p:blipFill>
        <p:spPr>
          <a:xfrm>
            <a:off x="5181480" y="1066680"/>
            <a:ext cx="3772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HMMMM....</a:t>
            </a:r>
            <a:endParaRPr b="0" lang="en-US" sz="5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What do you think nonrenewable resources a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Break it down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Nonrenewab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Resourc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question"/>
          <p:cNvPicPr/>
          <p:nvPr/>
        </p:nvPicPr>
        <p:blipFill>
          <a:blip r:embed="rId1"/>
          <a:stretch/>
        </p:blipFill>
        <p:spPr>
          <a:xfrm>
            <a:off x="6019920" y="304920"/>
            <a:ext cx="2797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NONRENEWABLE RESOURCES</a:t>
            </a:r>
            <a:endParaRPr b="0" lang="en-US" sz="5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3771720"/>
            <a:ext cx="88394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A nonrenewable resource is a natural resource that cannot be re-made or re-grown at a scale comparable to its consump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oal"/>
          <p:cNvPicPr/>
          <p:nvPr/>
        </p:nvPicPr>
        <p:blipFill>
          <a:blip r:embed="rId1"/>
          <a:stretch/>
        </p:blipFill>
        <p:spPr>
          <a:xfrm>
            <a:off x="5105520" y="91440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nuclearpwrplant1"/>
          <p:cNvPicPr/>
          <p:nvPr/>
        </p:nvPicPr>
        <p:blipFill>
          <a:blip r:embed="rId2"/>
          <a:stretch/>
        </p:blipFill>
        <p:spPr>
          <a:xfrm>
            <a:off x="457200" y="914400"/>
            <a:ext cx="4343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NUCLEAR ENERGY</a:t>
            </a:r>
            <a:endParaRPr b="0" lang="en-US" sz="5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584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Nuclear fission uses uranium to create energ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Nuclear energy is a nonrenewable resource because once the uranium is used, it is g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nuclearpwrplant1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246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uclearpwrplant2"/>
          <p:cNvPicPr/>
          <p:nvPr/>
        </p:nvPicPr>
        <p:blipFill>
          <a:blip r:embed="rId2"/>
          <a:stretch/>
        </p:blipFill>
        <p:spPr>
          <a:xfrm>
            <a:off x="228600" y="3733920"/>
            <a:ext cx="374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COAL, PETROLEUM, AND GAS</a:t>
            </a:r>
            <a:endParaRPr b="0" lang="en-US" sz="40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Coal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,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petroleum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, and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natural gas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are considered nonrenewable because they can not be replenished in a short period of time.  These are called fossil fuel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gasoline"/>
          <p:cNvPicPr/>
          <p:nvPr/>
        </p:nvPicPr>
        <p:blipFill>
          <a:blip r:embed="rId1"/>
          <a:stretch/>
        </p:blipFill>
        <p:spPr>
          <a:xfrm>
            <a:off x="6172200" y="3581280"/>
            <a:ext cx="2771640" cy="26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natural gas"/>
          <p:cNvPicPr/>
          <p:nvPr/>
        </p:nvPicPr>
        <p:blipFill>
          <a:blip r:embed="rId2"/>
          <a:stretch/>
        </p:blipFill>
        <p:spPr>
          <a:xfrm>
            <a:off x="6172200" y="1447920"/>
            <a:ext cx="28195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HOW IS COAL MADE ???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0" name="Picture 7" descr="coalformation1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HOW ARE OIL AND GAS MADE ???</a:t>
            </a:r>
            <a:endParaRPr b="0" lang="en-US" sz="40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2" name="Picture 6" descr="oilgasformation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WHAT WAS THE DIFFERENCE BETWEEN COAL AND OIL/GAS?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4" name="Picture 6" descr="Coal"/>
          <p:cNvPicPr/>
          <p:nvPr/>
        </p:nvPicPr>
        <p:blipFill>
          <a:blip r:embed="rId1"/>
          <a:stretch/>
        </p:blipFill>
        <p:spPr>
          <a:xfrm>
            <a:off x="914400" y="1752480"/>
            <a:ext cx="2971800" cy="247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asoline2"/>
          <p:cNvPicPr/>
          <p:nvPr/>
        </p:nvPicPr>
        <p:blipFill>
          <a:blip r:embed="rId2"/>
          <a:stretch/>
        </p:blipFill>
        <p:spPr>
          <a:xfrm>
            <a:off x="4495680" y="1752480"/>
            <a:ext cx="2336760" cy="3505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gasoline"/>
          <p:cNvPicPr/>
          <p:nvPr/>
        </p:nvPicPr>
        <p:blipFill>
          <a:blip r:embed="rId3"/>
          <a:stretch/>
        </p:blipFill>
        <p:spPr>
          <a:xfrm>
            <a:off x="6248520" y="4114800"/>
            <a:ext cx="2590560" cy="223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natural gas"/>
          <p:cNvPicPr/>
          <p:nvPr/>
        </p:nvPicPr>
        <p:blipFill>
          <a:blip r:embed="rId4"/>
          <a:stretch/>
        </p:blipFill>
        <p:spPr>
          <a:xfrm>
            <a:off x="576360" y="4386240"/>
            <a:ext cx="37670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HMMMM....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23720" y="14479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If nonrenewable resources are resources that cannot be re-made at a scale comparable to its consumption, what are renewable resource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question"/>
          <p:cNvPicPr/>
          <p:nvPr/>
        </p:nvPicPr>
        <p:blipFill>
          <a:blip r:embed="rId1"/>
          <a:stretch/>
        </p:blipFill>
        <p:spPr>
          <a:xfrm>
            <a:off x="152280" y="533520"/>
            <a:ext cx="279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57:16Z</dcterms:created>
  <dc:creator>TINA SHUTTY</dc:creator>
  <dc:description/>
  <dc:language>en-US</dc:language>
  <cp:lastModifiedBy>Tarean Anthony</cp:lastModifiedBy>
  <dcterms:modified xsi:type="dcterms:W3CDTF">2011-10-07T19:39:55Z</dcterms:modified>
  <cp:revision>18</cp:revision>
  <dc:subject/>
  <dc:title>NONRENEWABLE AND RENEWABLE RESOURCES !</dc:title>
</cp:coreProperties>
</file>